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dt" idx="40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1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 type="sldNum" idx="42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5530F3ED-EED4-4414-BD0A-8CD6F69B5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B4D052D9-A784-453F-90EE-6BACDAA7B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804822B2-E93E-478F-9F6E-E4421D112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5960" cy="3768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B0335730-EF47-4381-A7BB-7C9330C37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07D0E07B-401D-4A66-B33A-AC5A32935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2AF559E2-D456-4FC3-9DBF-6EBE32D00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6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B5D824FA-0157-41D4-909C-6C314FA04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12C57629-E38D-474C-97C1-14A0FC4E9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B0986F6A-8BAE-42A3-B40E-C2B1E9D4C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567720"/>
                <a:tab algn="l" pos="10023480"/>
                <a:tab algn="l" pos="10479240"/>
                <a:tab algn="l" pos="10934640"/>
              </a:tabLst>
            </a:pPr>
            <a:fld id="{7D7AA7CC-53A9-45BE-83A0-AB332027D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543-47F2-440E-B019-650B2204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651-0B4F-4AE8-AD5E-28FF08F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AA7B2-508E-44CB-ABB2-D5960607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2A0E7-79C6-4E29-9C67-EF31CD13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82657-7589-46CB-828B-9DEC8120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25797-1808-4E6B-8CC3-B8D4FBC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3F9EF-51AA-46BF-B045-A6F81533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BDA0E-45D9-4CBD-9805-18E1F46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42EB3-9702-4393-AB8E-D7D984A9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72AED-BC81-4B54-969C-0824CAC4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761BE-3EAE-4B4C-A250-0B4F39A3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D185D-B3B8-4860-BC45-E6810FAF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C7D-43C0-4365-9CE8-AE39023F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906BB-B9FE-4E50-8FEC-4C38367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D0A897-ABA0-42D0-A7D5-42CF07B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09E0C-2333-4FF8-B6B0-062AC6BD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3E9DC-E48F-46AE-8F40-D7762D55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CEAA2-A9E7-4C02-8EA7-369640D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CE7E0-2BF6-41E1-8029-ACF6F6B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97736-D30E-4BD3-AB02-C285F1D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21350-856E-48C9-AD28-B8970AB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0657DE-56AD-4BB2-A7E4-E75A2DEC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A6B3A-EB1C-4587-BE15-55D22C92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006-2516-4F59-B089-E23801E9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45AC3-D4AD-4422-93B6-A6AC1B82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B0E4C-0EDF-4D75-BEF6-4193ED4E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8DF82-D363-477A-BEB3-DAA0D841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556E-64FF-4310-86AC-A6551D4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087E-6020-4DC6-BD0B-215C7605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D906-4EB2-4949-AB38-BE2AA91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4936F-5C09-4B35-87D7-4FCCC34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7A4E6-D9DF-4B29-A2D6-A4C06D26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38EFD-6FF0-4F24-9CB0-C550D40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86834-EA7F-45DB-83C2-C3B694A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41EB-06A4-4F87-90F0-39BB65DF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8080-DBC7-4CE9-971E-7489BAEA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93DC4-8B02-492D-B977-719CA6D2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14A6F-B586-4EA9-87AF-B9334395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878C3-B242-4552-88F5-ACE71619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6F349-8464-4A2E-B577-305E465E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F2C21-D5C1-4B21-A87D-D46FFE78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13344-C121-4E7E-8564-DF7A15B8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63698-3BA0-4EA2-9427-8B339B6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9E65D-B019-45C4-BDCF-AD75FF77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B6AE3-72C7-4478-B14E-0CB2895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87E5-9F61-445B-9A82-1CCCB26D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7F1CD-5C32-4085-B1B8-FD8F30C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18A52-C9F3-4F47-A546-2E2302F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8BE1C-E351-4AE7-8C9F-FDF2285F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77AEB-DF68-4D00-A2F0-D5C3ED4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F11A5-AA1F-4380-932C-1FE72C2D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11C04-F3E9-47BA-957B-B825CCED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5500D-1F89-4429-A875-55CAA5A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CC20A-D19F-40A9-A5C9-BB7D1B08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80913-1EA5-462C-8026-0365B8F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19C8B-BCF9-401F-923F-7975295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B643-739A-4573-A369-8F29088E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78522-F9E0-4874-B82F-C7236B2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EBFC8-618D-4DFE-A032-2C55BA0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B426B-1F02-4BF0-B1F7-C916F9F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21EFE-F441-4F6F-8EDE-6641CB7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CB1DA-7583-4964-BAB1-8801D5D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17703-01A4-46A4-8453-D12C149E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AB8B6-3043-481D-BB91-C44C29D9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3216-9B08-4C0D-AAF6-B02F0E03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10D-9A47-402C-9E0D-9B6F67F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9341-62C0-43D8-9749-535114F5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316C-58B8-47C8-809A-DFE30B6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5F5-EEF8-4C6D-A01D-5AA59A3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AED-50AB-43F9-A490-3A213EF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8E86-A3DA-49AE-AA90-E63832E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1B2D-6972-4FB4-BB3E-6F1FF57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0F6D-2E7B-4591-9C3B-7EF6C742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EBE5-2B80-422A-B3A6-82862427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FF7A-32D1-45BB-A4EA-C37159A0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BB9D-72A1-49B7-AE78-ED4CC12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5907-6431-4ECE-B998-4EE3A84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1F79-AE6F-419A-8A88-10B9CE1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9890-5D72-4E03-A86F-8819AD6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A4F-CA93-4F7C-8FBE-03EC58B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D933-EF23-4BD0-9503-FD00AC5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A89E-A4E0-4951-914E-4A7DB12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3D66-3D3A-4B01-AACC-57E4122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8B9F-EC35-412D-8BAE-47A3844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B656-C36D-4EF2-A014-D6280A7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127B-5951-4FA4-A91E-FFB457E6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BCBA-5C82-452D-8A3E-10A4FF70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A9D6-A8A0-4F39-BB60-DE24B472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16FF-0FF6-43D7-B80B-89F657D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2FB5F-608C-497A-A9B9-DF1179D5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BFF-E2E5-4C34-AAF3-DE4E2446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026F-1A2E-4F82-82B0-723FFE9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56CF-B7AB-4203-BDF7-09EE04A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B16B-AEE7-45B0-805F-D79FE63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A839-7532-4DC5-93AD-E165AA9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2BE4-C1F9-484A-B9A1-5A3C4D1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4C8F-91AF-4BB1-83C9-02FC743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2BA8-90EA-44BF-850F-AF911779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12EA-EB92-4329-B397-5D21134C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FDF41-6D27-4315-95D7-E1CC446C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3841-8F0F-4628-9F96-3315DB60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262-55C9-4457-B613-FC1BF19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6DF0-9999-4ADD-AFF2-400B7551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2542-2B22-4625-9642-C88DE8F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8999-AA59-469D-A681-47DD14A7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E0D5-3324-4EA7-AB78-00F8409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F4DF5-D33C-4696-BE09-1E3FF22D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04F17-53E7-4736-808B-1196D82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7A90-8C05-43D8-BAE9-B5400A85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3D31C-4D2A-41DF-A3C4-F125DB6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D867-8C38-4B07-8D8B-DE5EB03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7E84-1F59-421C-83BE-4479E604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802-23D8-43B5-A272-3F9F099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F2245-82AF-4F3A-9B4A-171E2C6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8004-E94E-4686-928B-B76F6C35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4C86-3BB7-4D6B-80FE-88FBEC8F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A76A-20A4-4123-91FE-CE8CA19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4B9C1-9B30-4E4C-9D80-F6A72EB2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95F0-15C4-44B8-9712-B8E417A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4724-A271-4239-8BD5-8262D97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40A4-B381-4DC4-88C9-523DE8C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B482-88A4-425C-8321-A6642F2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1A5E-5302-4D50-A0F7-E3E9476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FEB-269A-497B-BF3A-478F8135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AC51-BBDE-41DE-9F9B-747C142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DA54-15F1-4AEC-B388-2CA59FC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88C2-3071-40DA-8718-5EF0E47A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5D5D-9F4A-455C-BB99-822F9EC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7B83-2CE3-4E59-B8C9-F3C2AC50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FE196-20FD-41DC-B638-5972B37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94EE-077B-4DB6-89E3-6A966956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B8B0-340C-41A7-94FE-CEE6606E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5D2CD-ABD6-40C2-9B45-E20C010E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F3DC4-6EC5-423C-B9B0-D8F55128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08A-0EEA-4D75-A21E-1288D5B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CAAC-EAD9-4C1C-9C94-62CDE75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9C16C-59FD-414D-9813-D7ACEEEF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2372-B38B-4267-BBED-D7784EC4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FF541-25A4-496C-97DE-6C7A5D9A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439AC-75A0-43B0-A859-61C097FE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136B-E228-45E6-A4ED-29161E22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04DB-5EA0-4025-AD77-E63BA927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04F3A-46E3-464F-9000-0F3077A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6904-BC35-41BA-8C54-A4AD4DD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9769-854F-457C-B818-F94C9988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515-9204-4C5C-BFD3-8EBF36F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60460-44CE-463F-ABFF-D2BACAF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F670-40A0-4FB0-8762-969A217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AEF8-8BFA-4716-8880-B13B0F4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F6702-7204-4747-B950-F9546E2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EC1A-048C-4D08-AB22-E93A40CE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6AE7-D096-4EC8-8586-D202D107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2FB27-2E79-44CF-B3A7-DCDB1B63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F5C32-61FA-4E72-937F-E38866A4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54BAA-30EA-4004-8B60-CAAD1D48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9C93D-5B29-4E9C-87FE-5BCE48C7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838C0AF-BD6A-4669-89ED-F76A72ADD196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68120" y="168120"/>
            <a:ext cx="9738000" cy="331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32BEEAB-5DDC-4728-AAB5-52CD211CA5AA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638172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33360" y="7067520"/>
            <a:ext cx="39513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13DC6B6-F3AB-498E-9A25-063EF0B9182B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728120" y="0"/>
            <a:ext cx="23526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875720" y="171360"/>
            <a:ext cx="0" cy="68850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7540560" y="32259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7643880" y="3328920"/>
            <a:ext cx="465120" cy="4636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7624800" y="331776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804DCC04-0929-43EA-8663-3641540EDCC3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6C9E3522-86CF-46DA-B124-6AC827F4C266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9912240" y="324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10080720" cy="27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71360" y="2666880"/>
            <a:ext cx="973764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C5E5FB5-835F-4EF4-B5A3-3F7BDB4BEF66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808520" y="113184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1363FB6E-715F-495A-BC71-8C0EB18502D1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9912240" y="2052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68120" y="2519280"/>
            <a:ext cx="97380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71360" y="157320"/>
            <a:ext cx="9737640" cy="2358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68120" y="268776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2791708-5BAE-46CA-9DF8-A446F373A791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5030640" y="1736640"/>
            <a:ext cx="9720" cy="531360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384960" y="706608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B808DE26-119E-434F-A184-BD8BF2A8518E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5040360" y="2425680"/>
            <a:ext cx="0" cy="46166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1008072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68120" y="1511280"/>
            <a:ext cx="9738000" cy="10080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60200" y="7045200"/>
            <a:ext cx="97380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68120" y="141120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6240" y="7066080"/>
            <a:ext cx="394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788000" y="1149120"/>
            <a:ext cx="50472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77420D5-FD47-47A1-A540-4D43A46ED116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788000" y="114120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22735FF-26BE-47E6-9F3C-6635DF92A1C3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68120" y="17460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703760" y="6972120"/>
            <a:ext cx="67320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DB556A3-85E6-4FA1-9044-04BC9B824B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68120" y="168120"/>
            <a:ext cx="9738000" cy="3351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1008072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24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1B54F5F8-EE27-4BEC-9E02-F9FA67A2F8A3}" type="slidenum">
              <a:rPr b="0" lang="en-US" sz="24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33360" y="7067520"/>
            <a:ext cx="37288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1951200"/>
            <a:ext cx="9070920" cy="199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2920" bIns="50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46d7a"/>
                </a:solidFill>
                <a:latin typeface="Arial"/>
                <a:ea typeface="Arial"/>
              </a:rPr>
              <a:t>Scientific Calculator</a:t>
            </a:r>
            <a:br>
              <a:rPr sz="5400"/>
            </a:br>
            <a:r>
              <a:rPr b="1" lang="en-US" sz="6000" spc="-1" strike="noStrike">
                <a:solidFill>
                  <a:srgbClr val="546d7a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546d7a"/>
                </a:solidFill>
                <a:latin typeface="Arial"/>
                <a:ea typeface="Arial"/>
              </a:rPr>
              <a:t>C++ Workshop Projec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5943600" y="5029200"/>
            <a:ext cx="34290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Memb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ry Aveline L.Germ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Jade Mark L. Ifur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ria Christine C. Ur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. Joyce A. Villalo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US" sz="1600" spc="-1" strike="noStrike">
                <a:solidFill>
                  <a:srgbClr val="2a373d"/>
                </a:solidFill>
                <a:latin typeface="Arial"/>
                <a:ea typeface="SimSun"/>
              </a:rPr>
              <a:t>Ma. Jocelia T. Aurel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567720"/>
                <a:tab algn="l" pos="10023480"/>
                <a:tab algn="l" pos="10479240"/>
                <a:tab algn="l" pos="10934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5" descr="calculator character"/>
          <p:cNvPicPr/>
          <p:nvPr/>
        </p:nvPicPr>
        <p:blipFill>
          <a:blip r:embed="rId1"/>
          <a:stretch/>
        </p:blipFill>
        <p:spPr>
          <a:xfrm>
            <a:off x="1230480" y="4819680"/>
            <a:ext cx="23619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33000" y="1682280"/>
            <a:ext cx="93740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 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33000" y="1682280"/>
            <a:ext cx="93740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5" descr="calculator character"/>
          <p:cNvPicPr/>
          <p:nvPr/>
        </p:nvPicPr>
        <p:blipFill>
          <a:blip r:embed="rId1"/>
          <a:stretch/>
        </p:blipFill>
        <p:spPr>
          <a:xfrm>
            <a:off x="849240" y="4846680"/>
            <a:ext cx="228600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Arial"/>
                <a:ea typeface="Arial"/>
              </a:rPr>
              <a:t>SCIENTIFIC CALCULATOR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3984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.     General Features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I.    GUI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II.   Button Sequencing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IV.   Sample Case Guide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V.    Error Messages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  <a:p>
            <a:pPr lvl="1" marL="70488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b86"/>
                </a:solidFill>
                <a:latin typeface="Arial"/>
                <a:ea typeface="Arial"/>
              </a:rPr>
              <a:t>VI.  DEMO</a:t>
            </a:r>
            <a:endParaRPr b="0" lang="en-US" sz="3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General Featur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15720" y="1494000"/>
            <a:ext cx="9070920" cy="566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6960" indent="-32220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ase of us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Displays the current express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Enables the saving of a number to the   memor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426960" indent="-322200">
              <a:lnSpc>
                <a:spcPct val="100000"/>
              </a:lnSpc>
              <a:spcBef>
                <a:spcPts val="751"/>
              </a:spcBef>
              <a:buClr>
                <a:srgbClr val="d16349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arly error prevention and detec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Disables buttons that are ineligible for a logical mathematical express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1173240" indent="-498600">
              <a:lnSpc>
                <a:spcPct val="100000"/>
              </a:lnSpc>
              <a:spcBef>
                <a:spcPts val="700"/>
              </a:spcBef>
              <a:buClr>
                <a:srgbClr val="ccb4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r>
              <a:rPr b="1" lang="en-US" sz="2800" spc="-1" strike="noStrike">
                <a:solidFill>
                  <a:srgbClr val="646b86"/>
                </a:solidFill>
                <a:latin typeface="Arial"/>
                <a:ea typeface="Arial"/>
              </a:rPr>
              <a:t>Computes the expression at certain check-point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426960" indent="-322200">
              <a:spcBef>
                <a:spcPts val="700"/>
              </a:spcBef>
              <a:spcAft>
                <a:spcPts val="1137"/>
              </a:spcAft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173240" indent="-498600">
              <a:spcBef>
                <a:spcPts val="700"/>
              </a:spcBef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Calculator  GUI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086600" cy="4921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Button Sequencing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3352680" y="1814400"/>
            <a:ext cx="3143520" cy="497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Sample Case Guid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925560" y="2332080"/>
          <a:ext cx="8070840" cy="4011480"/>
        </p:xfrm>
        <a:graphic>
          <a:graphicData uri="http://schemas.openxmlformats.org/drawingml/2006/table">
            <a:tbl>
              <a:tblPr/>
              <a:tblGrid>
                <a:gridCol w="422280"/>
                <a:gridCol w="966600"/>
                <a:gridCol w="966960"/>
                <a:gridCol w="981000"/>
                <a:gridCol w="568440"/>
                <a:gridCol w="584280"/>
                <a:gridCol w="568080"/>
                <a:gridCol w="852480"/>
                <a:gridCol w="554040"/>
                <a:gridCol w="568440"/>
                <a:gridCol w="103824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 gridSpan="9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800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4-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2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</a:tr>
              <a:tr h="364680">
                <a:tc rowSpan="9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h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Nos.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Ops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[Func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p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5760"/>
                          <a:tab algn="l" pos="911160"/>
                          <a:tab algn="l" pos="1366920"/>
                          <a:tab algn="l" pos="1822320"/>
                          <a:tab algn="l" pos="2278080"/>
                          <a:tab algn="l" pos="2733840"/>
                          <a:tab algn="l" pos="3189240"/>
                          <a:tab algn="l" pos="3645000"/>
                          <a:tab algn="l" pos="4100400"/>
                          <a:tab algn="l" pos="4556160"/>
                          <a:tab algn="l" pos="5011560"/>
                          <a:tab algn="l" pos="5467320"/>
                          <a:tab algn="l" pos="5923080"/>
                          <a:tab algn="l" pos="6378480"/>
                          <a:tab algn="l" pos="6834240"/>
                          <a:tab algn="l" pos="7289640"/>
                          <a:tab algn="l" pos="7745400"/>
                          <a:tab algn="l" pos="8201160"/>
                          <a:tab algn="l" pos="8656560"/>
                          <a:tab algn="l" pos="911232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Arial"/>
                        </a:rPr>
                        <a:t>M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2323d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02920" y="1767960"/>
            <a:ext cx="9070920" cy="486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. Negative Functio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square roo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sqrt] of  a 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factorial [!] o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 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. Modulo Ran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the divisor or dividend is 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nega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. Trigonometric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arcsine [asin]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of a number greater than 1 or less than -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arccosine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acos] of a number greater than 1 or les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than -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4. Division by Zer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a number is divided by zero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b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546d7a"/>
                </a:solidFill>
                <a:latin typeface="Arial"/>
                <a:ea typeface="Arial"/>
              </a:rPr>
              <a:t>Error Messag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292320" indent="-292320"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5. Logarithm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computing the logarith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[log] of a non-positive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B. Occurs when computing the natura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logarithm [ln] of a non-positive numb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6. Out of Range Error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A. Occurs when the final answer is greater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2320" indent="-292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              </a:t>
            </a:r>
            <a:r>
              <a:rPr b="1" lang="en-US" sz="2800" spc="-1" strike="noStrike">
                <a:solidFill>
                  <a:srgbClr val="546d7a"/>
                </a:solidFill>
                <a:latin typeface="Arial"/>
                <a:ea typeface="Arial"/>
              </a:rPr>
              <a:t>than 10^11.  </a:t>
            </a:r>
            <a:r>
              <a:rPr b="1" lang="en-US" sz="3000" spc="-1" strike="noStrike">
                <a:solidFill>
                  <a:srgbClr val="546d7a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0:35:09Z</dcterms:created>
  <dc:creator>jocel</dc:creator>
  <dc:description/>
  <dc:language>en-US</dc:language>
  <cp:lastModifiedBy>jocel</cp:lastModifiedBy>
  <dcterms:modified xsi:type="dcterms:W3CDTF">2011-10-27T08:38:11Z</dcterms:modified>
  <cp:revision>28</cp:revision>
  <dc:subject/>
  <dc:title>Scientific Calculator</dc:title>
</cp:coreProperties>
</file>